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E904-0DD4-4ABD-823D-05794DC35E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1382-9090-4863-9564-51B2CF9CB9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91D-6593-4FB6-BA74-E33C2610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566-C442-44D1-9B2E-CDCB9E3C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B1D-78B1-4CBB-95F8-1DECC216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166-EA6C-4296-8BCB-2270C10E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864-3732-410D-9F2F-B0FC0CD1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E23-BA09-4B83-A4C4-BC4BD064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4B0-D666-42C7-8A34-F5F2B732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995-1FE5-4D2E-B11E-B8C928CE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9B5-A2D5-4260-96A8-2835FCD9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4C6-66FB-4766-92F7-B7A0D2F5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39F-A304-4A7A-BA87-68982E23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3DC-EBB5-4EE5-A7B9-2BC06284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FC3D-437C-4836-8283-F6C1202127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矩形 3"/>
          <p:cNvSpPr/>
          <p:nvPr/>
        </p:nvSpPr>
        <p:spPr>
          <a:xfrm>
            <a:off x="2279520" y="220500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基于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GIS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和不确定优化模型的湿地网络优化设计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232000" y="3433680"/>
            <a:ext cx="6912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北京师范大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黑体"/>
              </a:rPr>
              <a:t>（青年千人计划专家，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黑体"/>
              </a:rPr>
              <a:t>Ecological  Engineering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黑体"/>
              </a:rPr>
              <a:t>杂志副主编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411280" y="4643280"/>
            <a:ext cx="6338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日（周五）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上午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9: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411280" y="5173560"/>
            <a:ext cx="6338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生态中心二楼会议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398680" y="564372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黄河三角洲生态环境研究中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滨州学院科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2916360" y="3429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蔡宴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9T07:49:00Z</dcterms:created>
  <dc:creator>Administrator</dc:creator>
  <dc:description/>
  <dc:language>en-US</dc:language>
  <cp:lastModifiedBy>微软用户</cp:lastModifiedBy>
  <dcterms:modified xsi:type="dcterms:W3CDTF">2018-03-14T09:35:58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