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8362-8011-4BDC-9D26-D591892E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F2DA-2F5E-427C-BF00-526A57F8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9FE-7786-4749-93E8-85F368A6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86E4-216E-432F-B141-ED9425AF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FFF-477E-44C0-ACB8-4392A2F6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4FD-46F9-4E65-8032-8EB52BF1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DBF-7082-46E8-AD43-30E88544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D8D-216C-4F0E-B758-22BAC88F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C61-F061-4CE2-81FC-AEF67469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A7E-50BE-4431-A883-194AEC47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E2A-71B2-4B35-85F4-4940FF63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2A2-E7FC-47C2-BE8D-57CA7999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3137-2014-4F7F-9719-FFE171E8F3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2411280" y="2492280"/>
            <a:ext cx="6732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影响空勤人员身心健康的因素分析及对策研究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411280" y="3656160"/>
            <a:ext cx="676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曹振海  中国国际航空公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411280" y="4753080"/>
            <a:ext cx="6338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r>
              <a:rPr b="1" lang="en-US" sz="2600" spc="-1" strike="noStrike">
                <a:solidFill>
                  <a:srgbClr val="ffffff"/>
                </a:solidFill>
                <a:latin typeface="黑体"/>
                <a:ea typeface="黑体"/>
              </a:rPr>
              <a:t>24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日  上午</a:t>
            </a:r>
            <a:r>
              <a:rPr b="1" lang="en-US" sz="2600" spc="-1" strike="noStrike">
                <a:solidFill>
                  <a:srgbClr val="ffffff"/>
                </a:solidFill>
                <a:latin typeface="黑体"/>
                <a:ea typeface="黑体"/>
              </a:rPr>
              <a:t>9: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2411280" y="5315040"/>
            <a:ext cx="6338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工科楼</a:t>
            </a:r>
            <a:r>
              <a:rPr b="1" lang="en-US" sz="2600" spc="-1" strike="noStrike">
                <a:solidFill>
                  <a:srgbClr val="ffffff"/>
                </a:solidFill>
                <a:latin typeface="黑体"/>
                <a:ea typeface="黑体"/>
              </a:rPr>
              <a:t>2-2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2411280" y="5891040"/>
            <a:ext cx="6338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飞行学院  滨州学院科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9T07:49:19Z</dcterms:created>
  <dc:creator>Administrator</dc:creator>
  <dc:description/>
  <dc:language>en-US</dc:language>
  <cp:lastModifiedBy>微软用户</cp:lastModifiedBy>
  <dcterms:modified xsi:type="dcterms:W3CDTF">2018-03-14T09:35:34Z</dcterms:modified>
  <cp:revision>6</cp:revision>
  <dc:subject/>
  <dc:title>PowerPoint 演示文稿</dc:title>
</cp:coreProperties>
</file>